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482-5679-4A29-918E-3DD1BAC8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E63-FDD0-49E7-805E-65D0682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F79-D613-4BD6-AD45-C43E3935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49B-5EF7-48AE-A05D-D2F3BB9C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5A8-5A7E-4D04-BB75-9E50FBB0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F01-2A79-4DB6-B73B-81455E4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400-5D34-4533-B7CE-6BF22696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A24-C15F-4E7B-B379-57F1938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AE3-4910-43EC-8B75-3D0B64E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FAF-5D52-4193-928F-6C1BF7D5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064-3755-4A60-804C-816160F2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1DA-A2AE-4EF2-9F8E-BB0D3B1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13D-3845-444D-BEFD-6C6DE6D7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aseen A. and Charlie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495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se You Didn’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ods of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Tactic for W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tiful Rain for Abund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ot* a lot of tourist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Dry Years, with less rain fall so wheat crops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’s C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Russia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ern Loc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a is CO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271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l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 Contin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74320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895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5053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58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id Continental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teppe— Found in South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56:58Z</dcterms:created>
  <dc:creator>QPS</dc:creator>
  <dc:description/>
  <dc:language>en-US</dc:language>
  <cp:lastModifiedBy>QPS</cp:lastModifiedBy>
  <dcterms:modified xsi:type="dcterms:W3CDTF">2010-04-22T02:14:00Z</dcterms:modified>
  <cp:revision>3</cp:revision>
  <dc:subject/>
  <dc:title>Russia’s Climate</dc:title>
</cp:coreProperties>
</file>